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B94-1465-48E8-834D-7962748B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C12-4FFA-4A0C-8014-E33AA49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1A6-100C-4DAF-8BAA-840084BE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F3D-7803-4AAF-8E31-FDECC9C6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5F0-E18B-44FD-9E8D-C21EE90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C40-7728-4F36-B95E-4477A03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FCC-F8ED-4613-98A7-2DE7059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0D9-4D2A-45DE-911E-34250A2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A9B-E892-42BD-9900-DBDB9173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F4D-93E2-4EA5-BD2D-3D9B997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765-DFA5-482D-A3F6-E9E992A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CD4-E756-4FF5-BAFC-F7156A9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9D1-E27A-41C4-B533-F1860397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37:59Z</dcterms:created>
  <dc:creator>Grupo Editorial</dc:creator>
  <dc:description/>
  <dc:language>en-US</dc:language>
  <cp:lastModifiedBy>Grupo Editorial</cp:lastModifiedBy>
  <dcterms:modified xsi:type="dcterms:W3CDTF">2001-09-20T15:46:24Z</dcterms:modified>
  <cp:revision>1</cp:revision>
  <dc:subject/>
  <dc:title>Sin título de diapositiva</dc:title>
</cp:coreProperties>
</file>